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4BF-23B8-463E-A7BC-25D2182E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AB9-2210-4253-88BB-9DD55B70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9F48-DF0B-43FB-ABF6-7564B370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867E-74EC-45D8-86F1-A1B1842D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378-7072-418E-91A7-01E10BC0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1786-D36B-4BD9-8229-0490308D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BF6-0F16-45CE-95BC-481E38C5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87C1-A599-4249-BCDD-0779F1C5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969-1E96-4890-ACE2-E02107EB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D50-8170-4D93-9A88-BDA08146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205-FBD2-4048-8E02-FDE998AE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5B8B-A4D0-46CA-85F7-3718A9B9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12A0-3321-4CCE-B296-44BC65A880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Grade5 web que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hlie o’neil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rade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i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33520" y="2378160"/>
            <a:ext cx="68104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00b050"/>
                </a:solidFill>
                <a:latin typeface="Calibri"/>
              </a:rPr>
              <a:t>were the story took 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the story took place in  the kings  home  and in a room filled with straw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50"/>
                </a:solidFill>
                <a:latin typeface="Calibri"/>
              </a:rPr>
              <a:t>The magic in the sto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in the story the magic is how rumplestiltskin  spins straw into gold  and when he just pops 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50"/>
                </a:solidFill>
                <a:latin typeface="Calibri"/>
              </a:rPr>
              <a:t>The magic numb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The girl  had 3 chances to  guess rumplestiltskin  name was </a:t>
            </a:r>
            <a:r>
              <a:rPr b="0" lang="en-AU" sz="2000" spc="-1" strike="noStrike">
                <a:solidFill>
                  <a:srgbClr val="00b050"/>
                </a:solidFill>
                <a:latin typeface="Calibri"/>
              </a:rPr>
              <a:t>main  Characters    </a:t>
            </a: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rumplestiltskin  millers girl  k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50"/>
                </a:solidFill>
                <a:latin typeface="Calibri"/>
              </a:rPr>
              <a:t>Good de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She got to married the  king and keep her bab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50"/>
                </a:solidFill>
                <a:latin typeface="Calibri"/>
              </a:rPr>
              <a:t>Bad de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Rumplestiltskin   wanted her   ba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50"/>
                </a:solidFill>
                <a:latin typeface="Calibri"/>
              </a:rPr>
              <a:t>Conflict</a:t>
            </a: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Rumplestiltskin wants the lady’s  baby but she wants to keep it  and so she has to guess his name and she had 3 days to guess it on the last day  of the last name on her list she got it </a:t>
            </a:r>
            <a:r>
              <a:rPr b="0" lang="en-AU" sz="20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50"/>
                </a:solidFill>
                <a:latin typeface="Calibri"/>
              </a:rPr>
              <a:t>Conflict resolv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00b0f0"/>
                </a:solidFill>
                <a:latin typeface="Calibri"/>
              </a:rPr>
              <a:t>ho</a:t>
            </a:r>
            <a:r>
              <a:rPr b="0" lang="en-AU" sz="1900" spc="-1" strike="noStrike">
                <a:solidFill>
                  <a:srgbClr val="00b0f0"/>
                </a:solidFill>
                <a:latin typeface="Calibri"/>
              </a:rPr>
              <a:t>w the conflict was solved is she guessed his name and she got to keep he r baby and marrie  the king 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Cli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Ink 3"/>
          <p:cNvSpPr/>
          <p:nvPr/>
        </p:nvSpPr>
        <p:spPr>
          <a:xfrm>
            <a:off x="297000" y="5851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26" y="16256"/>
                </a:moveTo>
                <a:lnTo>
                  <a:pt x="826" y="1625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aylor lautn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357200"/>
            <a:ext cx="9144000" cy="5500800"/>
          </a:xfrm>
          <a:prstGeom prst="rect">
            <a:avLst/>
          </a:prstGeom>
          <a:solidFill>
            <a:srgbClr val="a22e8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aylor is born on the 11</a:t>
            </a:r>
            <a:r>
              <a:rPr b="0" lang="en-AU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of February .  He is 17 year  old . Taylor i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famous because he is a popular  move star . Taylor is  born in US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1. Taylor is in new moon 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2. He is on twilight  as well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3.  He was on high school football  team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4. He began acting at the age of 13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5. His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iddle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name  is denial.</a:t>
            </a:r>
            <a:r>
              <a:rPr b="0" lang="en-AU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898989"/>
                </a:solidFill>
                <a:latin typeface="Calibri"/>
              </a:rPr>
              <a:t>Click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2357280"/>
            <a:ext cx="41432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peed grid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aim of the game is to get the sums righ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o pla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You will need to press play and the you read the number you have to make out of other numbers like thi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you need to guess the su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. And that is  how you play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I recommend this came to grade 5 6 because they have hard sums like what do you need to get up to  249  i did not enjoy it that much if you like hard work that this is the game forhttp://www.woodlands-   you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Click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0" y="2857680"/>
          <a:ext cx="3929040" cy="1525320"/>
        </p:xfrm>
        <a:graphic>
          <a:graphicData uri="http://schemas.openxmlformats.org/drawingml/2006/table">
            <a:tbl>
              <a:tblPr/>
              <a:tblGrid>
                <a:gridCol w="1038240"/>
                <a:gridCol w="963720"/>
                <a:gridCol w="963360"/>
                <a:gridCol w="96372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K Mar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Franchise are bad they can some times not work out for the people how do75 industries use franchising to distribute goods and services to consumer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In the United States more than 40% of all retail sales come through franchising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There are 767,483 franchised business establishments in the United States (2001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Franchised Businesses provide over 18,000,000 jobs in the United States (2004 estimate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Franchised Businesses provide goods and services worth $624.6 billion per year in the United States (2001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A new Franchised Business opens somewhere in the United States every 8 minute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this  end slide show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22:54:42Z</dcterms:created>
  <dc:creator>Education</dc:creator>
  <dc:description/>
  <dc:language>en-US</dc:language>
  <cp:lastModifiedBy>Education</cp:lastModifiedBy>
  <dcterms:modified xsi:type="dcterms:W3CDTF">2009-12-01T23:30:54Z</dcterms:modified>
  <cp:revision>23</cp:revision>
  <dc:subject/>
  <dc:title>Grade 5 web quest</dc:title>
</cp:coreProperties>
</file>